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48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4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8880" y="693360"/>
            <a:ext cx="4622760" cy="346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8328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78328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DF2D-CB8D-4D4D-93AE-1E77A491F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834A-82A3-4BE6-9404-1238B5266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12B3-153A-4472-8D9A-3B79FA2DF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EC8D-EE60-4F3C-808D-105B22E8A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4753-95B1-4209-ACDF-4D919736A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C16-C3AF-4D62-A00D-FB4CA352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D543-F9EC-4F7D-B2EE-3AFC2768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81A-2654-45E0-A431-F191C352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29A-70D2-4400-882B-3E3E99DF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EEC3-2DFE-4730-9D27-D090E383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81E9-A36E-43F7-BAE5-CA4E933D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47C1-2126-4757-8330-1B6522A9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B0AB-27DB-4B1B-ACCC-CF8DE1C4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8249-E66C-4E21-9DA6-A055E656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6400-9555-4255-90C4-6A1777C5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271A-BEE7-4AB6-907F-3FC1BF92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9D2-9EF0-41AE-8202-D5F9AA17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2D9E-0D17-445E-9C6F-80F30219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865C-9C79-41DA-BE49-AEC03F0F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EBBC-6C52-4B4A-A697-8254811D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0586-DD27-4767-ACD6-DA37A926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BD3B-E44B-41F5-9594-5416649E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DA1-8368-4C34-908D-EA76B1FE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79E-C870-4FB3-B895-187C71E4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FDC-0FEA-4BEF-8DA2-52B79C70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9A7-1838-43AD-BE1C-69F0738E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B41-419D-43A8-8CD3-6C528B0E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5E2-B14F-478F-9FBF-0091A917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4A2-AB88-4A9A-B474-FD2627EC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EE19-F19F-410F-A024-41E844FC3C8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CCBC-5C15-4DDB-93E8-B4DB63DD470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4 Major Sty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14300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pective – linear style with a vanishing point: 3-D eff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cism – idolizing classic images, architecture and ide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larism – emphasis on civic virtue, non-div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ism – attention given to detail of human features, focus on the individu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373356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edieval Ar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2" name="Picture 5" descr="giolam"/>
          <p:cNvPicPr/>
          <p:nvPr/>
        </p:nvPicPr>
        <p:blipFill>
          <a:blip r:embed="rId1"/>
          <a:stretch/>
        </p:blipFill>
        <p:spPr>
          <a:xfrm>
            <a:off x="0" y="984240"/>
            <a:ext cx="6324480" cy="5873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6400800" y="68580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Focus on the div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Flat, 2-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Same face/no det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inconsistent size (body vs. le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asaccio-Tribute Mone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1427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5" name="Picture 9" descr="Masaccio-tribute"/>
          <p:cNvPicPr/>
          <p:nvPr/>
        </p:nvPicPr>
        <p:blipFill>
          <a:blip r:embed="rId1"/>
          <a:stretch/>
        </p:blipFill>
        <p:spPr>
          <a:xfrm>
            <a:off x="152280" y="1905120"/>
            <a:ext cx="885348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Botticelli, The Birth of Venu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7" name="Picture 4" descr="botticelli_venus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506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600" y="228600"/>
            <a:ext cx="2743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donna of Chancellor Roll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rolin"/>
          <p:cNvPicPr/>
          <p:nvPr/>
        </p:nvPicPr>
        <p:blipFill>
          <a:blip r:embed="rId1"/>
          <a:stretch/>
        </p:blipFill>
        <p:spPr>
          <a:xfrm>
            <a:off x="3124080" y="457200"/>
            <a:ext cx="5799240" cy="6151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52280" y="76320"/>
            <a:ext cx="89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BlackChancery"/>
              </a:rPr>
              <a:t>The Doge, Leonardo Loredon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BlackChancery"/>
              </a:rPr>
              <a:t>Berlini, 150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3" descr="Bellini-The Doge Leonardo Loredon-1501-05"/>
          <p:cNvPicPr/>
          <p:nvPr/>
        </p:nvPicPr>
        <p:blipFill>
          <a:blip r:embed="rId1"/>
          <a:srcRect l="1840" t="2684" r="2454" b="14095"/>
          <a:stretch/>
        </p:blipFill>
        <p:spPr>
          <a:xfrm>
            <a:off x="2362320" y="1447920"/>
            <a:ext cx="44100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rkuenzi.wikispaces.co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W:\Downloads\qrcode.19846558.png"/>
          <p:cNvPicPr/>
          <p:nvPr/>
        </p:nvPicPr>
        <p:blipFill>
          <a:blip r:embed="rId1"/>
          <a:stretch/>
        </p:blipFill>
        <p:spPr>
          <a:xfrm>
            <a:off x="1219320" y="757080"/>
            <a:ext cx="6095880" cy="609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01:02:39Z</dcterms:created>
  <dc:creator>Will</dc:creator>
  <dc:description/>
  <dc:language>en-US</dc:language>
  <cp:lastModifiedBy>tech</cp:lastModifiedBy>
  <dcterms:modified xsi:type="dcterms:W3CDTF">2014-02-06T13:27:43Z</dcterms:modified>
  <cp:revision>16</cp:revision>
  <dc:subject/>
  <dc:title>Masaccio-Tribute Money 1427</dc:title>
</cp:coreProperties>
</file>